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948A5-46F6-4924-994F-260B57CE93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DBC14-7C26-4762-A110-DFEBD124F5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1FEB5-AC41-48CB-A6FE-1540206E0D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03543-B7CB-4E6C-8794-6DCE53D609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E1457-9894-4AA9-A6DD-01C12942AB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968AF-6E8B-4FF8-BA78-7348B21315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8E124-2EC8-46D0-989D-9510979558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28050-AF2E-40E0-9261-4996ACD477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3020-186E-4BA9-B2B5-2FF066D3F4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9CD25-0FB7-4BAD-81A8-846A437944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AD300-AD50-4016-8966-8B5F9835AC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04F6-1A86-45EF-9166-ACAF1110C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9DBD-E25A-4146-95AE-7B2F396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A61C-238B-444C-AC99-9BF01B5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FA0D-1B57-4091-9897-F9D5D7DC4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823E-2EDA-4BBB-AF7E-2FA5E4A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846E-F2F7-46DC-9E0A-F6F201A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AFF0-492D-431D-A7BC-AA8B622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32BA-4431-4687-AEC2-A0A5B291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B5F4-7AF6-47F9-84AA-6ED6C56D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FC58-2655-4E98-B10F-324A0624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A7F7-6057-44EF-A20D-3286B73E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47C5-936F-42A1-87DE-3F7CE23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3B9330-9D36-495B-95E4-31980D22321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564000" y="148428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TIP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456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24000" y="328464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G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904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2124000" y="2924280"/>
            <a:ext cx="4756320" cy="1440"/>
          </a:xfrm>
          <a:custGeom>
            <a:avLst/>
            <a:gdLst>
              <a:gd name="textAreaLeft" fmla="*/ 0 w 4756320"/>
              <a:gd name="textAreaRight" fmla="*/ 4756680 w 4756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213" h="4">
                <a:moveTo>
                  <a:pt x="0" y="0"/>
                </a:moveTo>
                <a:lnTo>
                  <a:pt x="13212" y="3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4464000" y="256392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212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446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6880320" y="292428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908000" y="5229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ag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958680" y="3762360"/>
            <a:ext cx="714060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042920" y="1557360"/>
            <a:ext cx="2879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agma (masas muy calientes de minerales fundidos) asciende lentamente hacia la superficie terrestre, a travé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11640" y="1484280"/>
            <a:ext cx="23050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salen a la superficie a través de los volcanes, se enfrían deprisa originand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volcá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983280" y="126828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no salen al exterior, se enfrían lentamente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plutó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23 CuadroTexto"/>
          <p:cNvSpPr/>
          <p:nvPr/>
        </p:nvSpPr>
        <p:spPr>
          <a:xfrm>
            <a:off x="611280" y="162864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23 CuadroTexto"/>
          <p:cNvSpPr/>
          <p:nvPr/>
        </p:nvSpPr>
        <p:spPr>
          <a:xfrm>
            <a:off x="3780000" y="1557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23 CuadroTexto"/>
          <p:cNvSpPr/>
          <p:nvPr/>
        </p:nvSpPr>
        <p:spPr>
          <a:xfrm>
            <a:off x="6588000" y="1341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24 Conector recto"/>
          <p:cNvSpPr/>
          <p:nvPr/>
        </p:nvSpPr>
        <p:spPr>
          <a:xfrm flipV="1">
            <a:off x="262728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25 Conector recto"/>
          <p:cNvSpPr/>
          <p:nvPr/>
        </p:nvSpPr>
        <p:spPr>
          <a:xfrm flipV="1">
            <a:off x="5003640" y="299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27 Conector recto"/>
          <p:cNvSpPr/>
          <p:nvPr/>
        </p:nvSpPr>
        <p:spPr>
          <a:xfrm flipH="1" flipV="1">
            <a:off x="5003640" y="393336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 flipV="1">
            <a:off x="716436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etamór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42920" y="2349360"/>
            <a:ext cx="2879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unas rocas de la litosfera sufren grandes presiones y temperatu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16360" y="1989000"/>
            <a:ext cx="37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altas presiones y temperaturas hacen que las rocas de la zona sufran transformaciones que las convierten en rocas metamórf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922320" y="3384720"/>
            <a:ext cx="7500960" cy="29206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uadroTexto"/>
          <p:cNvSpPr/>
          <p:nvPr/>
        </p:nvSpPr>
        <p:spPr>
          <a:xfrm>
            <a:off x="611280" y="242100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3 CuadroTexto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9 Conector recto"/>
          <p:cNvSpPr/>
          <p:nvPr/>
        </p:nvSpPr>
        <p:spPr>
          <a:xfrm flipV="1">
            <a:off x="2340000" y="328464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20 Conector recto"/>
          <p:cNvSpPr/>
          <p:nvPr/>
        </p:nvSpPr>
        <p:spPr>
          <a:xfrm flipV="1">
            <a:off x="6156360" y="3068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63400" y="2879640"/>
            <a:ext cx="8040960" cy="3959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sedimen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1628640"/>
            <a:ext cx="252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iento o las corrientes de agua arrancan fragmentos a las rocas y los transport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35280" y="1341360"/>
            <a:ext cx="201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tiempo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se van depositando unos sobre otros formando cap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035760" y="1197000"/>
            <a:ext cx="31082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hay muchas capa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de las capas inferiores son aplast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 las capas superiores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que los transforma en rocas sedimentar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395280" y="1700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3 CuadroTexto"/>
          <p:cNvSpPr/>
          <p:nvPr/>
        </p:nvSpPr>
        <p:spPr>
          <a:xfrm>
            <a:off x="3203640" y="1413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23 CuadroTexto"/>
          <p:cNvSpPr/>
          <p:nvPr/>
        </p:nvSpPr>
        <p:spPr>
          <a:xfrm>
            <a:off x="5580000" y="1268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23 Conector recto"/>
          <p:cNvSpPr/>
          <p:nvPr/>
        </p:nvSpPr>
        <p:spPr>
          <a:xfrm flipV="1">
            <a:off x="2340000" y="2637000"/>
            <a:ext cx="0" cy="129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24 Conector recto"/>
          <p:cNvSpPr/>
          <p:nvPr/>
        </p:nvSpPr>
        <p:spPr>
          <a:xfrm flipV="1">
            <a:off x="4067280" y="2708280"/>
            <a:ext cx="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26 Conector recto"/>
          <p:cNvSpPr/>
          <p:nvPr/>
        </p:nvSpPr>
        <p:spPr>
          <a:xfrm flipV="1">
            <a:off x="7596360" y="263700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53:21Z</dcterms:modified>
  <cp:revision>49</cp:revision>
  <dc:subject/>
  <dc:title>Diapositiva 1</dc:title>
</cp:coreProperties>
</file>